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689F-CC92-4DBC-9170-1E4DC6D77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A950-C330-49B8-BF31-4A0628F61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B312-A6C8-4C61-98F0-748DE7151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68F1-F671-4E8B-B229-C4F066D4C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2AAA-74B4-4749-8909-DCFA62047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BDED-E6A8-44AA-876C-EDC30B502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1BD9-E328-4F03-947A-C2CEED12A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6C36-BA26-4066-BC74-47C5FBA54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8764-457D-4024-8239-9F2549B3D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9301-EA83-4CBE-9ED4-B99C70043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84F3-2A92-4906-9A3B-386C43D55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81F0-310A-47AE-AF9C-7ECB126A4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BF7F3-533A-458A-BC5B-62FF7CAA5C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85800" y="1263600"/>
            <a:ext cx="7848720" cy="48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6T22:12:44Z</dcterms:created>
  <dc:creator>Steve Devine</dc:creator>
  <dc:description/>
  <dc:language>en-US</dc:language>
  <cp:lastModifiedBy>Springer-SBM</cp:lastModifiedBy>
  <dcterms:modified xsi:type="dcterms:W3CDTF">2005-12-27T15:14:15Z</dcterms:modified>
  <cp:revision>9</cp:revision>
  <dc:subject/>
  <dc:title>PowerPoint Presentation</dc:title>
</cp:coreProperties>
</file>